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DD8-17B3-4981-8137-F4557883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1FE-9694-4912-9169-5E397506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052-2749-4CEA-9498-F121C139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DB9-4DBC-49FF-8830-B83744EB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963-165F-473A-8790-39908BF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633-C742-4F4A-9885-D5ABD15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139-DD94-4B28-B68E-D8363106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BEA-F54A-40BD-BB5A-E04643E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751-A59E-44FD-85E3-5BD3E98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A9B-496A-4586-82B7-A3D762C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58A-2338-43AD-968A-3B60B2B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61B-B78F-45BB-8554-3FA2DBE1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20F-B666-458C-8FD1-0A4ED692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907920"/>
            <a:ext cx="57592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"/>
              </a:rPr>
              <a:t>Section B 2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"/>
              </a:rPr>
              <a:t>3a-Self check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8464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83664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lf chec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4640"/>
            <a:ext cx="43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. Complete the ch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844640"/>
          <a:ext cx="8353440" cy="3760920"/>
        </p:xfrm>
        <a:graphic>
          <a:graphicData uri="http://schemas.openxmlformats.org/drawingml/2006/table">
            <a:tbl>
              <a:tblPr/>
              <a:tblGrid>
                <a:gridCol w="2376360"/>
                <a:gridCol w="3095640"/>
                <a:gridCol w="28814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ecti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tive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lative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ger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565800" y="2565360"/>
            <a:ext cx="145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5360"/>
            <a:ext cx="1578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357720"/>
            <a:ext cx="31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dang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3500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ost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6160" y="4076640"/>
            <a:ext cx="142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16720" y="4076640"/>
            <a:ext cx="1552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295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pop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501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ost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6676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440" y="1890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7668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. Match verbs and objects. Then add one more object to each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2135160"/>
          <a:ext cx="8352000" cy="3385800"/>
        </p:xfrm>
        <a:graphic>
          <a:graphicData uri="http://schemas.openxmlformats.org/drawingml/2006/table">
            <a:tbl>
              <a:tblPr/>
              <a:tblGrid>
                <a:gridCol w="2016000"/>
                <a:gridCol w="633600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bjec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rea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my life, my money,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chie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the top of a mountain, the library,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my dream, success,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195640" y="3933720"/>
            <a:ext cx="28872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19280" y="3357720"/>
            <a:ext cx="934920" cy="180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7207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my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4869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the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422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the farm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120" y="31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440" y="1890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476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. Circle the correct word and /or fill in the blank with the correct form of the word in brackets for each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060640"/>
            <a:ext cx="84960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n elephant weighs (few/many) times more than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An adult panda can eat (much/a little) more than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Canada is a (little/lot) less ______________ (crowded) tha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A tiger is (much/a little) _________ (strong) than a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8360" y="2133720"/>
            <a:ext cx="1079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3213000"/>
            <a:ext cx="1079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365720"/>
            <a:ext cx="647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4920" y="4205160"/>
            <a:ext cx="2681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crow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73720"/>
            <a:ext cx="1079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5284800"/>
            <a:ext cx="1652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6200" y="-257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0720" y="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206064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he biggest ______ in the world is the Sah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 river is too ______ to swim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China is one of __________ civilizations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The ______ of the fastest animal is 120 kilometers per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______ do you need for your co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a larg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43280" y="260280"/>
            <a:ext cx="316872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Exercis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3840" y="13082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1989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9840" y="2819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2492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280" y="3048120"/>
            <a:ext cx="18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ol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6120" y="134136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根据句意，用适当的词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360" y="40291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5800" y="496584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13744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用括号内单词的适当形式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Jim is very ______. Li Lei is _______ than Jim. (hung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Kate’s mooncakes are _______ of all. (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Your box is ______ than mine. But his is _______ of the three. (heav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Unit 2 is quite _____. Unit 3 is _____ than Unit 2. It’s __________ in Module 1. (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This TV play is _____ than that one. (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1125360"/>
            <a:ext cx="1447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720" y="1125360"/>
            <a:ext cx="1718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ung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3440" y="2205000"/>
            <a:ext cx="106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708280"/>
            <a:ext cx="1471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a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213000"/>
            <a:ext cx="158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av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3080" y="3789360"/>
            <a:ext cx="1017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5080" y="3789360"/>
            <a:ext cx="1380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0920" y="4292640"/>
            <a:ext cx="2137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har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640" y="4869000"/>
            <a:ext cx="1221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469440"/>
            <a:ext cx="813600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My mother is very ______. She is _______ in my family. (bu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Lingling gets to school ______ than the others. (ear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She speaks English _____ in our class. (w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Lucy jumped quite _____. (f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I think English is as _________ as Chinese. (impor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 This picture is _______________ of the four. (beauti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 Lucy did _____ than Lily. (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5800" y="476280"/>
            <a:ext cx="994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3800" y="476280"/>
            <a:ext cx="1378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us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640" y="1557360"/>
            <a:ext cx="1335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7080" y="2637000"/>
            <a:ext cx="881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1080" y="3141720"/>
            <a:ext cx="70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4720" y="3716280"/>
            <a:ext cx="19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3480" y="4797360"/>
            <a:ext cx="3323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most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2360" y="5877000"/>
            <a:ext cx="1200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4067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、单项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692280"/>
            <a:ext cx="835164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My brother is _____ more outgoing than me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many             B. little            C.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October 12th was one of ______ days in 2005. Shenzhou-VI was launch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发射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cessfully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exciting         B. more excit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the most exc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ich city is _____, Beijing, Shanghai or Fuzhou?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beautiful        B. the most beauti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more beauti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672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43700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3480" y="0"/>
            <a:ext cx="18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549360"/>
            <a:ext cx="835344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_____ children there are in a family, _____ their life will be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The less, the better  B. Fewer, ri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The fewer, th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Mobile phones are very popular now and they are ______ than before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cheap         B. cheaper      C.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In our city, it’s _____ in July, but it’s even ___ in August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hotter, hottest    B. hot, hot     C. hot, h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549360"/>
            <a:ext cx="474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6160" y="3213000"/>
            <a:ext cx="452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5800" y="4292640"/>
            <a:ext cx="474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82760" y="1490760"/>
            <a:ext cx="1839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060560"/>
            <a:ext cx="806436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Jack’s handwriting is as ____ as Mike’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          B. better           C.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e can do the work better with 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and ______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little, few    B. less, fewer    C. fewer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Jim is the tallest student in our cla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 is the second ______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tall              B. taller             C. t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5800" y="1060560"/>
            <a:ext cx="474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50160" y="2141640"/>
            <a:ext cx="452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080" y="4302000"/>
            <a:ext cx="474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0348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260280"/>
            <a:ext cx="3024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Summar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8720" y="3794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ortant 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197000"/>
            <a:ext cx="33829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l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far as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ac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b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n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k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1197000"/>
            <a:ext cx="43923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我所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对（问题、困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使；虽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生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跑上前去；跑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走路时撞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绊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some students to read the article in 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40720" y="189000"/>
            <a:ext cx="48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ortant senten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6000" y="792000"/>
            <a:ext cx="874872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the highest mountain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omolan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is Qomolang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8,844.43 meters high. It’s higher than any other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is the deepest salt lake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aspian Sea is the deepest of all the salt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you know that China is one of the oldest countrie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I did. It’s much older tha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1413000"/>
            <a:ext cx="65610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…cm taller/shor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uch /even/a little/less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s more tha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 about how to protect pan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000" y="620640"/>
            <a:ext cx="48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ortant struc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3908160" cy="1262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2060640"/>
            <a:ext cx="7632720" cy="3714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9560" indent="-439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rite a paragraph about how to protect endangered animals, use the useful sentences in 3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-439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Remember the words, phrases and sentences in this un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-439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Preview the new words in Unit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3840" y="264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85588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鲸的体型是世界上存在的动物中最大的，鲸是终生生活在水中的哺乳动物，对水的依赖程度很大，以致它们一旦离开了水便无法生活，鲸形状像鱼，鼻孔在头的上部，用肺呼吸。体长可达三十米，是现在世界上最大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45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对于鲸鱼你知道多少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0" t="0" r="0" b="11703"/>
          <a:stretch/>
        </p:blipFill>
        <p:spPr>
          <a:xfrm>
            <a:off x="5364000" y="623880"/>
            <a:ext cx="3419640" cy="2085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080" y="692280"/>
            <a:ext cx="39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the p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981000"/>
            <a:ext cx="82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鲸为适应水中生活，减少阻力，它们的后肢消失，前肢变成划水的浆板。身体成为流线型，酷似鱼。因而它们的潜水能力很强，小型齿鲸可潜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-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的水深处，停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-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，长须鲸可在水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处待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，最大的齿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抹香鲸能潜至千米以下，并在水中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之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260280"/>
            <a:ext cx="75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Read the following words and phrases about whales. Put them in the correct place in the ch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133720"/>
            <a:ext cx="81356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umans catch whales for meat, f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Eat small fish and other sea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Jump high out of the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Rules on whal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Water 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836640"/>
            <a:ext cx="720720" cy="622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200" y="-126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692280"/>
            <a:ext cx="8136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Live in the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Some kinds have 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Learn more about 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Stop putting rubbish into the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 Sing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 Whale parts sold to make thing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s candles and 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765000"/>
          <a:ext cx="8209080" cy="5237280"/>
        </p:xfrm>
        <a:graphic>
          <a:graphicData uri="http://schemas.openxmlformats.org/drawingml/2006/table">
            <a:tbl>
              <a:tblPr/>
              <a:tblGrid>
                <a:gridCol w="5850000"/>
                <a:gridCol w="235908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o they look like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o they live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o they ea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can they do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y do some of them have to be protected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can we protected them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6805440" y="83664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452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452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8520" y="328464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9800" y="42210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  6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89440" y="5492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61440" y="530064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  9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92360" y="1125360"/>
            <a:ext cx="6769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rite a paragraph about whales and why they need to be protected. Use the information in 3a. Then make a po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700280"/>
            <a:ext cx="792360" cy="64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480" y="3189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0720" y="54936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78487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les are… They live in… They eat… They c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interesting fact is… Another interesting fac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kinds of whales are in danger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protect wh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/should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0" b="10045"/>
          <a:stretch/>
        </p:blipFill>
        <p:spPr>
          <a:xfrm rot="370200">
            <a:off x="5148000" y="3789000"/>
            <a:ext cx="3674880" cy="2476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6:16Z</dcterms:created>
  <dc:creator/>
  <dc:description/>
  <dc:language>en-US</dc:language>
  <cp:lastModifiedBy/>
  <dcterms:modified xsi:type="dcterms:W3CDTF">2015-04-06T09:17:36Z</dcterms:modified>
  <cp:revision>1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